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30C-F517-4775-9013-7147979D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957-0F91-4FA9-B7E0-53088CF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E10-5D8A-4627-B113-876E1E2B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8B2-C603-4E8C-90BA-B09A6E3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FA7-6416-4FDD-8423-D2F0ED87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C56-4099-454C-A1D3-DBC2499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5D9-5B5D-4F8E-9392-6C00B32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4AB-DB01-42F7-A848-9334ADB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484-6422-43A9-98D6-1BE06D3F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3F5-B813-4676-A15B-7687B9A8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5A1-C5A5-42A1-8004-17556F9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759-F38A-40E0-81C1-019F6C2D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4B9-50DC-4E26-BCF6-7BB3709C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spiration.com/vlearni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ts.intute.ac.uk/detective/getonthecas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ardofstudies.nsw.edu.au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5256360" cy="49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700280"/>
            <a:ext cx="6769080" cy="42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have been given an open-ended research assign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will need to dec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hat the topic will be and develop your own foc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w you will find th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w you will present this inform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r research assignment will sh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vidence of detailed and independen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bility to engage with a range of ideas and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bility to produce a presentation for an appropriate 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4365720"/>
            <a:ext cx="809640" cy="76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6237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5D0-B696-4D56-9501-EE22BD586F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628640"/>
            <a:ext cx="6408720" cy="12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yourself these questions to help identify and clarify your research top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nterests m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social issues affect me, my family or my communit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nformation is available around this issu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ccessible is the information I will need to gath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ing a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cons_01" descr=""/>
          <p:cNvPicPr/>
          <p:nvPr/>
        </p:nvPicPr>
        <p:blipFill>
          <a:blip r:embed=""/>
          <a:stretch/>
        </p:blipFill>
        <p:spPr>
          <a:xfrm>
            <a:off x="684360" y="1773360"/>
            <a:ext cx="863280" cy="74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314172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3716280"/>
            <a:ext cx="6443640" cy="239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lk with your teacher and classmates about your topi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ose your topic as questions to be answered or a problem to be solv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ke a list of key words and phrases about your to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 a chart or a mind mapping software to outline your id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 help you generate ideas for the topic you can use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Inspiratio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, a mind mapping program. For more information go to the Inspiration website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ownload a free t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spiration.com/v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_Mindmap" descr=""/>
          <p:cNvPicPr/>
          <p:nvPr/>
        </p:nvPicPr>
        <p:blipFill>
          <a:blip r:embed=""/>
          <a:stretch/>
        </p:blipFill>
        <p:spPr>
          <a:xfrm>
            <a:off x="539640" y="5803920"/>
            <a:ext cx="1409760" cy="36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86652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7B4-EF27-46DB-8F1A-01EAFBEC3D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1628640"/>
            <a:ext cx="741708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research assignment reports facts, data, and other information on a specific topic. Your assignment requires information from many different sour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ncyclopedia to get an overview of the topic and refine your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catalogue to search for materials in books, magazine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material in pamphlets, brochures and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ms, documentaries and interviews with exp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ternet and CD RO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6119640" cy="16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internet has no standard system of quality control so it's important to be careful about which information you use and not to trust everything you re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re information on using the internet for research go to: </a:t>
            </a: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vts.intute.ac.uk/detective/getonthecas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4322880"/>
            <a:ext cx="80964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0000" y="2781360"/>
            <a:ext cx="838440" cy="102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1F9-0729-46F3-90AA-A8730D7645E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717560"/>
            <a:ext cx="78487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need to decide on the most appropriate way to present your re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is could 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 e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eature 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ultimedia presentation like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ocumentary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hoto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764240"/>
            <a:ext cx="6408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the most appropriate way to present your research. For example, a visual presentation may be more powerful and interesting when showing the effects of climate change or local pollution iss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4754520"/>
            <a:ext cx="80964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75F-186E-4933-B230-57EDE711747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717560"/>
            <a:ext cx="784872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esearch process requires a detailed search of the material and the development and organising of a structure for the presen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king and taking notes can help to get then information, ideas and perspectives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books, the Internet and present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Keep a list of references and sources for your bibliograp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must acknowledge all the sources you use. Not doing this is plagiarism and is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garded as chea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4724280"/>
            <a:ext cx="66247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advice about copyright, plagiarism and ethical practices, go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 of Studies: HSC: All My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oardofstudies.nsw.edu.a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86688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11280" y="4827600"/>
            <a:ext cx="80964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02F-347A-4D5B-803D-9B163ED3E40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773360"/>
            <a:ext cx="6912000" cy="42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assignment check li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topic and focus clear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ssue or concept well develop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personal point of view clearly expres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opening engaging and informativ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presentation clear and logica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the work have different points of view and perspectiv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re evidence of independent research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you used a variety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your work have a bibliograp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presentation appropriate to the top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824120"/>
            <a:ext cx="742680" cy="102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CE0-E822-4419-99FB-91999A02226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3:55:33Z</dcterms:created>
  <dc:creator>Authorised DET User</dc:creator>
  <dc:description/>
  <dc:language>en-US</dc:language>
  <cp:lastModifiedBy>Authorised DET User</cp:lastModifiedBy>
  <dcterms:modified xsi:type="dcterms:W3CDTF">2008-02-22T02:29:30Z</dcterms:modified>
  <cp:revision>33</cp:revision>
  <dc:subject/>
  <dc:title>Research assignment</dc:title>
</cp:coreProperties>
</file>